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28.png" ContentType="image/png"/>
  <Override PartName="/ppt/media/image8.wmf" ContentType="image/x-wmf"/>
  <Override PartName="/ppt/media/image7.jpeg" ContentType="image/jpeg"/>
  <Override PartName="/ppt/media/image12.wmf" ContentType="image/x-wmf"/>
  <Override PartName="/ppt/media/image4.png" ContentType="image/png"/>
  <Override PartName="/ppt/media/image24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7.wmf" ContentType="image/x-wmf"/>
  <Override PartName="/ppt/media/image25.wmf" ContentType="image/x-wmf"/>
  <Override PartName="/ppt/media/image20.gif" ContentType="image/gif"/>
  <Override PartName="/ppt/media/image1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6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7.gif" ContentType="image/gif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F52-822D-4D7A-B3A6-633DDA72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C2C-69B8-4406-AB56-03EA0872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AC7-B674-4DF0-9702-950FC34C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682-569E-4685-AD77-14322947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C5EE3-4A1B-40B5-AD99-490C863E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58B5A-81B5-4972-BF62-A71BE7E3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4D52D-4231-4A4F-AFDD-10F33DA2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C3398-2559-468B-8664-7714232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4D7DC-E22C-4E59-9155-ABA6C101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E7D65-13DE-4987-B5B0-4E7E8D16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1AF16-450D-4AFF-81AB-8391543B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BF2-7A84-4DF5-916D-D1673994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185CD-55AC-45D4-82CC-3F15C4E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8E431-BEE8-4F47-9C9C-C9972573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B39B0-F32C-47A4-9018-462DFA03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6BFF9-4585-4BEE-8C5D-AA72B179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12753-9F43-4CD3-96A3-C78119E3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9DC-14C4-4F4B-9BD6-9DADAAD8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C4C-78AA-44D8-9BC1-3C683AED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EC8-C8E2-453A-A1A8-A5F2D04D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432-6BA0-4065-A367-ADCDC8FF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DF2-2E90-4C67-8DF3-EC7E6E66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924-0D87-4326-BBBC-237927DC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40F-E47E-4680-BBDD-07D05DE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C6B9-3691-453A-93C6-B8CD86DF7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ACFB-16F8-44DB-9F4D-F2AC040A2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ine Feri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war in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bin im Museum fotografier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77120" y="4038480"/>
            <a:ext cx="1666800" cy="178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43000" y="1981080"/>
            <a:ext cx="1219320" cy="1019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09480" y="5181480"/>
            <a:ext cx="1692360" cy="932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Eisbecker gekau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15200" y="1295280"/>
            <a:ext cx="847800" cy="66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057400" y="2590920"/>
            <a:ext cx="1362240" cy="961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238880" y="380988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362320" y="3886200"/>
            <a:ext cx="1442880" cy="1897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bin in Halifax gefah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3795840" cy="2550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Antik gekau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89320" y="2309760"/>
            <a:ext cx="2563920" cy="2236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hat mir gut gefa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va Scotia ist sehr sehr pr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514600" y="2438280"/>
            <a:ext cx="2857680" cy="2876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Nova Scot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3952800" cy="301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95880" y="152280"/>
            <a:ext cx="2857680" cy="2876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meinem Hau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3352680" cy="2524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2280" y="1523880"/>
            <a:ext cx="2743200" cy="1959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meine Kusine besu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811320" cy="2532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den See besichtig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657600" cy="2435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200400" cy="21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Fisch gegess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4419720" cy="29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gern gelauf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76720" y="2057400"/>
            <a:ext cx="3162240" cy="392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bin um den See gesege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923760" cy="90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276720" cy="2183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1805040" cy="129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bin im Kino gegan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133344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82872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3505320"/>
            <a:ext cx="3063960" cy="2101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07:45Z</dcterms:created>
  <dc:creator>CUSD220</dc:creator>
  <dc:description/>
  <dc:language>en-US</dc:language>
  <cp:lastModifiedBy>CUSD220</cp:lastModifiedBy>
  <dcterms:modified xsi:type="dcterms:W3CDTF">2011-11-21T20:50:39Z</dcterms:modified>
  <cp:revision>37</cp:revision>
  <dc:subject/>
  <dc:title>Mein Ferien</dc:title>
</cp:coreProperties>
</file>